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jpeg" ContentType="image/jpeg"/>
  <Override PartName="/ppt/media/image46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png" ContentType="image/png"/>
  <Override PartName="/ppt/media/image42.png" ContentType="image/png"/>
  <Override PartName="/ppt/media/image11.png" ContentType="image/png"/>
  <Override PartName="/ppt/media/image4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19.png" ContentType="image/png"/>
  <Override PartName="/ppt/media/image2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8.png" ContentType="image/png"/>
  <Override PartName="/ppt/media/image3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5.png" ContentType="image/png"/>
  <Override PartName="/ppt/media/image58.png" ContentType="image/png"/>
  <Override PartName="/ppt/media/image3.wmf" ContentType="image/x-wmf"/>
  <Override PartName="/ppt/media/image15.jpeg" ContentType="image/jpeg"/>
  <Override PartName="/ppt/media/image64.png" ContentType="image/png"/>
  <Override PartName="/ppt/media/image63.wmf" ContentType="image/x-wmf"/>
  <Override PartName="/ppt/media/image23.png" ContentType="image/png"/>
  <Override PartName="/ppt/media/image29.png" ContentType="image/png"/>
  <Override PartName="/ppt/media/image62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66.png" ContentType="image/png"/>
  <Override PartName="/ppt/media/image41.jpeg" ContentType="image/jpeg"/>
  <Override PartName="/ppt/media/image5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17B-9DDE-4477-B070-7CDDEAAA5F8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8BD3-C1DF-4FE1-90A4-79403C97125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608C-5C0A-45CB-B75E-BC045358A5F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7D93-61E3-4756-992A-02A55CF788A3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8BA4-9508-4A40-881C-8398D9A114C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C61C-69DA-4E02-B0F6-3643385FE4D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F930-FAD7-4510-A9B2-901C4CC8E59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3684-544E-46BE-AA4E-8B63583AC1A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7BE9-970E-4242-8ACE-12ED066900F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DEFC-E751-4CCE-ACC5-C1C24729E9D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08AE-A641-4D30-8EF7-868CD0A7040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3B2D-E855-4D73-A477-C78A6EFEEF8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32CD-2E96-44F6-BE5D-FBA56177852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DDD8-8FBC-456B-B8A9-39903AA9079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6D64-EB28-4F96-B819-67F59FE6B83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1CD3-7424-4FB1-AC1A-5E44706E615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C463-8958-4006-AB7A-8F9858F6428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BF99-39CF-40C6-AAAD-A67BC5C2C7E6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73CC-79AC-4C8A-9037-DBA6F31AD858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1E44-C145-4070-9A77-8E5C84D01A0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5F8-6C00-4A1C-90B9-312C05E2935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1DEE-7880-4C83-9BA8-A8838175D9F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6AA3-9871-45C1-A6F8-E990489E9B1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BA23-8B44-4F00-A99A-05E4DCB0526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187E-1A47-4554-A874-E459F5976C0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0270-558D-4D94-B327-BA640A01A5B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6300-230F-4269-AFD6-80137C018547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BA4B-DADD-41DD-8767-E3B03699ADC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B52F-587E-4B17-85B7-B0958C2252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A8C2-81E5-468C-93D7-4F524C627876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6600-5B38-4A58-A404-DA23E9CDAEA0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2AA2-E197-4F41-82DD-BB17B9011905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Wissensmanage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4256-FF47-40DF-835A-F33C42A2E0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372B-B849-46B0-8173-17B94BB51663}" type="slidenum">
              <a:rPr b="0" lang="de-DE" sz="11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-1065240" y="2163600"/>
            <a:ext cx="8982000" cy="67374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196640" y="1069920"/>
            <a:ext cx="4514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F614-EBAD-4014-9F01-02826CD51F81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9F77-CA04-4C73-9F0E-08D8EB3EDA9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B61B-9A86-4C2C-ABDD-3AB453898CDF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3448-6BD8-45FF-B2B1-EB1837C6466C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FF9B-27E1-4513-A8F1-4102818FD8FB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2EE0-5A5F-435A-95C8-7BD43CFFE72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27D4-AC87-45ED-B255-C927A0768EB4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9767-2B1C-4848-8085-B45BF47C552D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891D-68E2-4323-8F18-7CA0989344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80DB-5C49-4770-B08D-D3712DBCA2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8314-5D8A-4FC7-96A1-FDD41C1D7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FED8-E58A-4DCC-8742-68F585FBF5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BD31-D41D-450E-8E89-3B97036CE5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CFC6-A0C6-4D8B-A1A2-35713E3D56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0808-5D51-42D4-B173-149FF3E6E4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0A05-E940-4D7D-BD21-6E098FEB16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AA56-5A77-4424-91A2-EAAB55210D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16C7-4B61-4B5F-A7A2-5E76A8A950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25B1-3136-4044-AAD5-01266ABB13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65AF-BB5D-429C-822E-D5FC5325E1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026144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248920" indent="-224892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12674160" y="93978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DAC7-48F2-47BA-B85E-DA474F12F64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emantic-web-grundlagen.de/index.php/Kapitel_1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image" Target="../media/image42.png"/><Relationship Id="rId14" Type="http://schemas.openxmlformats.org/officeDocument/2006/relationships/image" Target="../media/image43.jpeg"/><Relationship Id="rId15" Type="http://schemas.openxmlformats.org/officeDocument/2006/relationships/image" Target="../media/image44.png"/><Relationship Id="rId16" Type="http://schemas.openxmlformats.org/officeDocument/2006/relationships/image" Target="../media/image45.jpe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jpeg"/><Relationship Id="rId21" Type="http://schemas.openxmlformats.org/officeDocument/2006/relationships/image" Target="../media/image50.png"/><Relationship Id="rId22" Type="http://schemas.openxmlformats.org/officeDocument/2006/relationships/image" Target="../media/image50.png"/><Relationship Id="rId23" Type="http://schemas.openxmlformats.org/officeDocument/2006/relationships/image" Target="../media/image51.jpeg"/><Relationship Id="rId24" Type="http://schemas.openxmlformats.org/officeDocument/2006/relationships/image" Target="../media/image52.png"/><Relationship Id="rId25" Type="http://schemas.openxmlformats.org/officeDocument/2006/relationships/image" Target="../media/image53.pn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image" Target="../media/image56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61.png"/><Relationship Id="rId34" Type="http://schemas.openxmlformats.org/officeDocument/2006/relationships/image" Target="../media/image62.png"/><Relationship Id="rId35" Type="http://schemas.openxmlformats.org/officeDocument/2006/relationships/image" Target="../media/image63.wmf"/><Relationship Id="rId36" Type="http://schemas.openxmlformats.org/officeDocument/2006/relationships/image" Target="../media/image64.png"/><Relationship Id="rId37" Type="http://schemas.openxmlformats.org/officeDocument/2006/relationships/image" Target="../media/image65.png"/><Relationship Id="rId38" Type="http://schemas.openxmlformats.org/officeDocument/2006/relationships/image" Target="../media/image66.png"/><Relationship Id="rId39" Type="http://schemas.openxmlformats.org/officeDocument/2006/relationships/image" Target="../media/image67.jpeg"/><Relationship Id="rId40" Type="http://schemas.openxmlformats.org/officeDocument/2006/relationships/image" Target="../media/image68.png"/><Relationship Id="rId41" Type="http://schemas.openxmlformats.org/officeDocument/2006/relationships/image" Target="../media/image69.png"/><Relationship Id="rId42" Type="http://schemas.openxmlformats.org/officeDocument/2006/relationships/slideLayout" Target="../slideLayouts/slideLayout13.xml"/><Relationship Id="rId4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scal-hitzler.de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8/09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PD Dr. Pascal Hitzler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78C5-BDA8-41AF-9E02-F76F39B2F8F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Prüf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Vorraussichtlich mündlich (20min)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Termin vermutlich Ende Februar (wird noch festgelegt)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Anmeldezeitraum </a:t>
            </a:r>
            <a:br>
              <a:rPr sz="4200"/>
            </a:b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02.01.2009 – 02.02.2009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01BF-8655-424B-954B-0F0569507AC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57240" y="2428920"/>
          <a:ext cx="11163240" cy="6665760"/>
        </p:xfrm>
        <a:graphic>
          <a:graphicData uri="http://schemas.openxmlformats.org/drawingml/2006/table">
            <a:tbl>
              <a:tblPr/>
              <a:tblGrid>
                <a:gridCol w="2546280"/>
                <a:gridCol w="6026400"/>
                <a:gridCol w="2590560"/>
              </a:tblGrid>
              <a:tr h="442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 Okto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 Nov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Dezembe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bastian Rudolp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 Dezember 200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/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 Jan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.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us Krötzsch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Februar 200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cal Hitz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BB67-CF91-487D-9C8B-940D27FC33E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Inhal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ungstermin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3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7.11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1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5.12.2008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12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26.01.2009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09.02.2009 (mit Konsultation/Fragestunde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09F3-F39D-47FB-8AA9-7AE4F39FE04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tzler, Krötzsch, Rudolph, Sur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tic Web. Grundlagen.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inger-Verlag, 2008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ckt die meisten Inhalte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r Vorlesung ab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rcRect l="17454" t="197" r="17454" b="801"/>
          <a:stretch/>
        </p:blipFill>
        <p:spPr>
          <a:xfrm>
            <a:off x="9509040" y="4483080"/>
            <a:ext cx="2730600" cy="4152960"/>
          </a:xfrm>
          <a:prstGeom prst="rect">
            <a:avLst/>
          </a:prstGeom>
          <a:ln w="0">
            <a:noFill/>
          </a:ln>
          <a:effectLst>
            <a:outerShdw dist="114419" dir="7562437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7201-2DF7-49CF-825A-9B086AEA430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3360" y="9423360"/>
            <a:ext cx="128653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1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semantic-web-grundlagen.de/index.php/Kapitel_1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BFD5-D14A-4FA9-95C8-91B067A847F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019240"/>
            <a:ext cx="10464840" cy="53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Das Web flankiert den Übergang von der Industrie- zur Informationsgesellschaft und bietet die Infrastruktur für eine neue Qualität des Umgangs mit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hinsichtlich Beschaffu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                     wie auch Bereitstellung. 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-1473120" y="4910040"/>
            <a:ext cx="6337080" cy="4991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5423040" y="5524560"/>
            <a:ext cx="68450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Verfügbarke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ohe Aktualitä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ringe Kos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4048-4CF7-4A89-9B98-99B5B330931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2018880"/>
            <a:ext cx="11747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merzialisierung in allen Größenordn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rcRect l="0" t="9114" r="2248" b="5728"/>
          <a:stretch/>
        </p:blipFill>
        <p:spPr>
          <a:xfrm>
            <a:off x="431640" y="4800600"/>
            <a:ext cx="6350040" cy="41529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15" name="Picture 4" descr=""/>
          <p:cNvPicPr/>
          <p:nvPr/>
        </p:nvPicPr>
        <p:blipFill>
          <a:blip r:embed="rId2"/>
          <a:srcRect l="844" t="13271" r="2291" b="15084"/>
          <a:stretch/>
        </p:blipFill>
        <p:spPr>
          <a:xfrm>
            <a:off x="5062680" y="3581280"/>
            <a:ext cx="6806880" cy="403092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1228-B2EE-437B-AE84-C353888A88C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45960" y="2355480"/>
            <a:ext cx="10769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itere Lebensbereiche werden "webisiert"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hörden, Verwaltung (eGovernmen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sbildung (eLearning, eEducatio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zialkontakte (Social-Networking-Plattformen, Partnerbör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ltag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1"/>
          <a:srcRect l="18565" t="8593" r="35911" b="57682"/>
          <a:stretch/>
        </p:blipFill>
        <p:spPr>
          <a:xfrm>
            <a:off x="4356000" y="7086600"/>
            <a:ext cx="5754960" cy="266688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20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D59F-6DF1-4357-AAF4-17A5C875EE3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5E29-20C3-4487-B660-393F417ACD2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2" name="Picture 1" descr=""/>
          <p:cNvPicPr/>
          <p:nvPr/>
        </p:nvPicPr>
        <p:blipFill>
          <a:blip r:embed="rId1"/>
          <a:srcRect l="0" t="10279" r="1785" b="6484"/>
          <a:stretch/>
        </p:blipFill>
        <p:spPr>
          <a:xfrm>
            <a:off x="8447040" y="0"/>
            <a:ext cx="5600880" cy="35082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3" name="Picture 2" descr=""/>
          <p:cNvPicPr/>
          <p:nvPr/>
        </p:nvPicPr>
        <p:blipFill>
          <a:blip r:embed="rId2"/>
          <a:srcRect l="899" t="662" r="0" b="2647"/>
          <a:stretch/>
        </p:blipFill>
        <p:spPr>
          <a:xfrm>
            <a:off x="8518680" y="844560"/>
            <a:ext cx="785520" cy="1041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33600" y="196920"/>
            <a:ext cx="102614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ülle an Information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sgerichtet auf Mensche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s Endnutz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fassen der Bedeutu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Websei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abhängig von konkr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ilden von Zusammenhä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3"/>
          <a:srcRect l="0" t="10369" r="1795" b="8183"/>
          <a:stretch/>
        </p:blipFill>
        <p:spPr>
          <a:xfrm>
            <a:off x="9321840" y="3086280"/>
            <a:ext cx="5702400" cy="444960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27" name="Picture 6" descr=""/>
          <p:cNvPicPr/>
          <p:nvPr/>
        </p:nvPicPr>
        <p:blipFill>
          <a:blip r:embed="rId4"/>
          <a:srcRect l="548" t="12121" r="2763" b="7436"/>
          <a:stretch/>
        </p:blipFill>
        <p:spPr>
          <a:xfrm>
            <a:off x="9728280" y="6858000"/>
            <a:ext cx="4508280" cy="3708360"/>
          </a:xfrm>
          <a:prstGeom prst="rect">
            <a:avLst/>
          </a:prstGeom>
          <a:ln w="0">
            <a:noFill/>
          </a:ln>
          <a:effectLst>
            <a:outerShdw dist="114189" dir="6663806" blurRad="0" rotWithShape="0">
              <a:srgbClr val="000000">
                <a:alpha val="9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1D1F-22E2-4F48-AD6C-5BE2A10BBF1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B742-0BBD-4568-8F07-453C8FFBCCA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Lokalisierung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von Information problematis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eutige Suchmaschinen gut,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 stichwortbasier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inhaltliche,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semantische Such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rcRect l="1426" t="15071" r="37718" b="35346"/>
          <a:stretch/>
        </p:blipFill>
        <p:spPr>
          <a:xfrm>
            <a:off x="8437680" y="5450040"/>
            <a:ext cx="4565520" cy="430524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3" name="Text Box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8CD7-DA87-4C95-9475-10BC2137019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47E-50A0-4D5F-8D60-1977D258BC6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BD77-9BA4-4CF9-87CC-7DF7B2DE743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Heterogenität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der vorhandenen Information auf verschiedensten Eben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chenkodierung (z.B. ASCII vs. Unicode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erwendete natürliche Sprach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nordnung von Information auf Webseit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rcRect l="11629" t="30136" r="8486" b="10715"/>
          <a:stretch/>
        </p:blipFill>
        <p:spPr>
          <a:xfrm>
            <a:off x="1092240" y="8039160"/>
            <a:ext cx="7251840" cy="279720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pic>
        <p:nvPicPr>
          <p:cNvPr id="438" name="Picture 4" descr=""/>
          <p:cNvPicPr/>
          <p:nvPr/>
        </p:nvPicPr>
        <p:blipFill>
          <a:blip r:embed="rId2"/>
          <a:srcRect l="206" t="23809" r="6903" b="13833"/>
          <a:stretch/>
        </p:blipFill>
        <p:spPr>
          <a:xfrm>
            <a:off x="8369280" y="6870600"/>
            <a:ext cx="5638680" cy="349272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000000">
                <a:alpha val="95000"/>
              </a:srgbClr>
            </a:outerShdw>
          </a:effectLst>
        </p:spPr>
      </p:pic>
      <p:sp>
        <p:nvSpPr>
          <p:cNvPr id="439" name="Text Box 5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C66F-4B25-4DD9-8A51-F2645447687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DC8E-D8DA-4AD7-B485-2C2D4CC7002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implizites Wiss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, d.h. Informationen, sind nicht explizit spezifiziert, folgen aber aus der Kombination gegebener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rmallogische Methode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forderlich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automatisches Schlussfolgern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9883800" y="5710320"/>
            <a:ext cx="3060720" cy="3962160"/>
          </a:xfrm>
          <a:prstGeom prst="rect">
            <a:avLst/>
          </a:prstGeom>
          <a:ln w="0">
            <a:noFill/>
          </a:ln>
          <a:effectLst>
            <a:outerShdw dist="114205" dir="11103818" blurRad="0" rotWithShape="0">
              <a:srgbClr val="777777">
                <a:alpha val="95000"/>
              </a:srgbClr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6E40-DB33-4009-B71C-9328F783A0A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bleme des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60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sansätz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d hoc: Verwendung von KI-Methoden zur Auswertung bestehender unstrukturierter Informationen im Web 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37280" indent="-502560"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 priori: Strukturierung der Web-Informationen zur Erleichterung der automatisierten Auswertung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➜ </a:t>
            </a: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D724-BFB9-4EA9-A521-8CC50EF9448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arum Semantic Web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270080" y="2552400"/>
            <a:ext cx="1107432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8294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0160e"/>
                </a:solidFill>
                <a:latin typeface="Helvetica Neue"/>
              </a:rPr>
              <a:t>Exkurs: Syntax vs. Semantik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yntax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von grch.συνταξι 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sammenstellung, Satzbau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(normative) Struktur von Daten, d.h. sie charakterisiert, was "wohlgeformte" Daten sind.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  <a:p>
            <a:pPr marL="829440" indent="-565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Helvetica Neue"/>
              </a:rPr>
              <a:t>Semantik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(grch. σημαντικο     ς  – </a:t>
            </a: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zum Zeichen gehörend</a:t>
            </a: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) steht für die Bedeutung von Daten, d.h. sie charakterisiert beispielsweise, welche inhaltliche Schlussfolgerungen sich ziehen lassen.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US" sz="2700" spc="-1" strike="noStrike">
                <a:solidFill>
                  <a:srgbClr val="000000"/>
                </a:solidFill>
                <a:latin typeface="Helvetica Neue"/>
              </a:rPr>
              <a:t>        </a:t>
            </a:r>
            <a:r>
              <a:rPr b="0" i="1" lang="en-US" sz="3100" spc="-1" strike="noStrike">
                <a:solidFill>
                  <a:srgbClr val="000000"/>
                </a:solidFill>
                <a:latin typeface="Helvetica Neue"/>
              </a:rPr>
              <a:t>4+)=(                        3+4=12                    3+4=7</a:t>
            </a:r>
            <a:br>
              <a:rPr sz="31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syntaktisch falsch         syntaktisch richtig        syntaktisch richtig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Helvetica Neue"/>
              </a:rPr>
              <a:t>            --                       semantisch falsch        semantisch richtig </a:t>
            </a:r>
            <a:endParaRPr b="0" lang="en-US" sz="2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9F8D-09A8-46FB-93B7-77905A60A5C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– Zuta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61600" y="2715840"/>
            <a:ext cx="10464840" cy="648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i essentielle Voraussetzungen zur Realisierung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 Standards zur Beschreibung von Informationen / von 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r definie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lexib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weiterbar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thoden zur Gewinnung von weiteren Informationen aus derlei Beschreibun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3C56-C55C-4DA8-8D48-2038C5CA281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25ED-3414-451E-8EFB-EFDEB3B1A93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5581800" y="2214720"/>
            <a:ext cx="5940360" cy="573696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4"/>
          <p:cNvSpPr/>
          <p:nvPr/>
        </p:nvSpPr>
        <p:spPr>
          <a:xfrm>
            <a:off x="768240" y="4363920"/>
            <a:ext cx="38912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6060240" y="856296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435880" y="3851280"/>
            <a:ext cx="2583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7315920" y="7129440"/>
            <a:ext cx="131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agung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6399000" y="3236760"/>
            <a:ext cx="861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6293160" y="5491080"/>
            <a:ext cx="1040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Line 10"/>
          <p:cNvSpPr/>
          <p:nvPr/>
        </p:nvSpPr>
        <p:spPr>
          <a:xfrm flipV="1">
            <a:off x="4761000" y="3749400"/>
            <a:ext cx="3584520" cy="112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Line 11"/>
          <p:cNvSpPr/>
          <p:nvPr/>
        </p:nvSpPr>
        <p:spPr>
          <a:xfrm flipV="1">
            <a:off x="1380960" y="3544560"/>
            <a:ext cx="5940720" cy="215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12"/>
          <p:cNvSpPr/>
          <p:nvPr/>
        </p:nvSpPr>
        <p:spPr>
          <a:xfrm flipV="1">
            <a:off x="1995480" y="5081760"/>
            <a:ext cx="4608360" cy="112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Line 13"/>
          <p:cNvSpPr/>
          <p:nvPr/>
        </p:nvSpPr>
        <p:spPr>
          <a:xfrm>
            <a:off x="2406600" y="6618240"/>
            <a:ext cx="5324400" cy="2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Line 14"/>
          <p:cNvSpPr/>
          <p:nvPr/>
        </p:nvSpPr>
        <p:spPr>
          <a:xfrm flipV="1">
            <a:off x="2816280" y="5183280"/>
            <a:ext cx="3890880" cy="10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Line 15"/>
          <p:cNvSpPr/>
          <p:nvPr/>
        </p:nvSpPr>
        <p:spPr>
          <a:xfrm flipV="1">
            <a:off x="3840120" y="5284800"/>
            <a:ext cx="2968560" cy="92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145-C206-4FCE-A9A9-AA7AE28A7EF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012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Grundidee des Semantic Web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4351320" y="2744640"/>
            <a:ext cx="4097520" cy="3959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4"/>
          <p:cNvSpPr/>
          <p:nvPr/>
        </p:nvSpPr>
        <p:spPr>
          <a:xfrm>
            <a:off x="5258880" y="6823080"/>
            <a:ext cx="22312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repräsentier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Schemawiss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154080" y="5389560"/>
            <a:ext cx="3889440" cy="34815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L Rule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rötzsch, Rudolph, Hitzl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ECAI 2008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AutoShape 6"/>
          <p:cNvSpPr/>
          <p:nvPr/>
        </p:nvSpPr>
        <p:spPr>
          <a:xfrm>
            <a:off x="2714760" y="4159080"/>
            <a:ext cx="103032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7"/>
          <p:cNvSpPr/>
          <p:nvPr/>
        </p:nvSpPr>
        <p:spPr>
          <a:xfrm>
            <a:off x="9470880" y="5183280"/>
            <a:ext cx="103212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AutoShape 8"/>
          <p:cNvSpPr/>
          <p:nvPr/>
        </p:nvSpPr>
        <p:spPr>
          <a:xfrm>
            <a:off x="11111040" y="4262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9"/>
          <p:cNvSpPr/>
          <p:nvPr/>
        </p:nvSpPr>
        <p:spPr>
          <a:xfrm>
            <a:off x="8961480" y="3033720"/>
            <a:ext cx="1031760" cy="82548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4351320" y="180324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1587600" y="2930400"/>
            <a:ext cx="1031760" cy="8240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10385280" y="6004080"/>
            <a:ext cx="2194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Daten z.B. auf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de-DE" sz="2300" spc="-1" strike="noStrike">
                <a:solidFill>
                  <a:srgbClr val="000099"/>
                </a:solidFill>
                <a:latin typeface="Arial"/>
              </a:rPr>
              <a:t>Webseiten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5240160" y="7950240"/>
            <a:ext cx="5663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Arial"/>
              </a:rPr>
              <a:t>z.B. </a:t>
            </a:r>
            <a:r>
              <a:rPr b="0" i="1" lang="de-DE" sz="2300" spc="-1" strike="noStrike">
                <a:solidFill>
                  <a:srgbClr val="000000"/>
                </a:solidFill>
                <a:latin typeface="Arial"/>
              </a:rPr>
              <a:t>jede Veröffentlichung hat einen Auto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816280" y="3443400"/>
            <a:ext cx="153504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5581800" y="2417760"/>
            <a:ext cx="203040" cy="30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3840120" y="4570560"/>
            <a:ext cx="409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4148280" y="6003720"/>
            <a:ext cx="511200" cy="40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Line 18"/>
          <p:cNvSpPr/>
          <p:nvPr/>
        </p:nvSpPr>
        <p:spPr>
          <a:xfrm flipH="1" flipV="1">
            <a:off x="8550360" y="5284440"/>
            <a:ext cx="614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Line 19"/>
          <p:cNvSpPr/>
          <p:nvPr/>
        </p:nvSpPr>
        <p:spPr>
          <a:xfrm flipH="1">
            <a:off x="8141760" y="3240000"/>
            <a:ext cx="613080" cy="20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Line 20"/>
          <p:cNvSpPr/>
          <p:nvPr/>
        </p:nvSpPr>
        <p:spPr>
          <a:xfrm flipH="1" flipV="1">
            <a:off x="8652960" y="4468320"/>
            <a:ext cx="2251080" cy="10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-450720" y="8562960"/>
            <a:ext cx="136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Deduktionsalgorithmen erlauben Gewinnu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ill Sans"/>
              </a:rPr>
              <a:t>neuen (impliziten) Wissens aus den integrierten Information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liennummernplatzhalter 4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0186-EEF2-4813-8DDC-D7A700D752D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115712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Ontologien als zentrale Technologi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4880" y="2384280"/>
            <a:ext cx="11569680" cy="628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Stellen einen Bezugsrahmen für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Disambiguierung und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Helvetica Neue"/>
              </a:rPr>
              <a:t>die globale Vernetzung</a:t>
            </a:r>
            <a:endParaRPr b="0" lang="en-US" sz="25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on Bedeutung zur Verfügung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Helvetica Neue"/>
              </a:rPr>
              <a:t>Vermitteln Hintergrundwisse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en Umgang mit implizitem Wissen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Haben eine explizite formale Semantik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Können als gemeinsame Ressource genutzt werden, z.B. über das WWW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Helvetica Neue"/>
              </a:rPr>
              <a:t>Erlauben die Integration verteilten Wisse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8653320" y="1803240"/>
            <a:ext cx="3376800" cy="32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498-E547-4AE8-AA68-D2325283D6A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8280" y="240840"/>
            <a:ext cx="1026144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600" spc="-1" strike="noStrike">
                <a:solidFill>
                  <a:srgbClr val="000000"/>
                </a:solidFill>
                <a:latin typeface="Bodoni SvtyTwo SC ITC TT-Book"/>
              </a:rPr>
              <a:t>Ontologiesprachen / Standards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1160" y="2284200"/>
            <a:ext cx="10464840" cy="684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Zentral für die Realisierung Semantischer Technologien ist die Entwicklung geeigneter </a:t>
            </a:r>
            <a:r>
              <a:rPr b="1" lang="de-DE" sz="4200" spc="-1" strike="noStrike">
                <a:solidFill>
                  <a:srgbClr val="000000"/>
                </a:solidFill>
                <a:latin typeface="Helvetica Neue"/>
              </a:rPr>
              <a:t>Repräsentationssprachen</a:t>
            </a: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 für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Bedeutung (Semantik) mittels Logik und  Deduktionsalgorith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00"/>
                </a:solidFill>
                <a:latin typeface="Helvetica Neue"/>
              </a:rPr>
              <a:t>Was eignet sich als  Repräsentationssprache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D041-8E44-4393-B57A-80D8AF9CECA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755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FF9-EC7B-4D4F-ADAD-845FA4515A9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03908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703728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tandardization Semantic Web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7037280" y="3584520"/>
            <a:ext cx="133344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7037280" y="35956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7037280" y="4206960"/>
            <a:ext cx="1333440" cy="826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7037280" y="432108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8359920" y="3584520"/>
            <a:ext cx="33001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359920" y="3600360"/>
            <a:ext cx="3292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rst public presentation of the Semantic Web ide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8359920" y="4206960"/>
            <a:ext cx="3300120" cy="82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8359920" y="422280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data model (RDF) and a first ontology languages (RDFS) at W3C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7037280" y="5033880"/>
            <a:ext cx="1333440" cy="82872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7037280" y="514836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8359920" y="5033880"/>
            <a:ext cx="33001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8359920" y="5051520"/>
            <a:ext cx="3292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large research projects about ontologies in the US and Europe (DAML &amp; Ontoknowledg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7037280" y="5862600"/>
            <a:ext cx="1333440" cy="82728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Rectangle 17"/>
          <p:cNvSpPr/>
          <p:nvPr/>
        </p:nvSpPr>
        <p:spPr>
          <a:xfrm>
            <a:off x="7037280" y="597528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8359920" y="5862600"/>
            <a:ext cx="3300120" cy="827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8359920" y="5878440"/>
            <a:ext cx="32922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rt of standardization of a new ontology language (OWL) based on research resul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7037280" y="6689880"/>
            <a:ext cx="1333440" cy="830160"/>
          </a:xfrm>
          <a:prstGeom prst="rect">
            <a:avLst/>
          </a:prstGeom>
          <a:solidFill>
            <a:srgbClr val="ff7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Rectangle 21"/>
          <p:cNvSpPr/>
          <p:nvPr/>
        </p:nvSpPr>
        <p:spPr>
          <a:xfrm>
            <a:off x="7037280" y="6804000"/>
            <a:ext cx="133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Rectangle 22"/>
          <p:cNvSpPr/>
          <p:nvPr/>
        </p:nvSpPr>
        <p:spPr>
          <a:xfrm>
            <a:off x="8359920" y="6689880"/>
            <a:ext cx="3300120" cy="830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359920" y="6705720"/>
            <a:ext cx="3292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82520" indent="-16812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Finalization of the  standard for data (RDF) and ontology (OW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7037280" y="7520040"/>
            <a:ext cx="1333440" cy="1747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7037280" y="8093160"/>
            <a:ext cx="13334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44520" indent="-344520" algn="ct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8359920" y="7520040"/>
            <a:ext cx="33001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27"/>
          <p:cNvSpPr/>
          <p:nvPr/>
        </p:nvSpPr>
        <p:spPr>
          <a:xfrm>
            <a:off x="8359920" y="7535880"/>
            <a:ext cx="3292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Standardization of a quer y langu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PARQL, 6. April 2006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going work on rule langu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(SWRL, DL-safe rules, RIF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Extension of OWL to OWL 1.1 / 2.0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169920" indent="-168480">
              <a:lnSpc>
                <a:spcPct val="100000"/>
              </a:lnSpc>
              <a:spcBef>
                <a:spcPts val="2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Ontology language of OMG based on UML (OD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AutoShape 31"/>
          <p:cNvSpPr/>
          <p:nvPr/>
        </p:nvSpPr>
        <p:spPr>
          <a:xfrm>
            <a:off x="6407280" y="3606840"/>
            <a:ext cx="266400" cy="5667480"/>
          </a:xfrm>
          <a:prstGeom prst="rightArrow">
            <a:avLst>
              <a:gd name="adj1" fmla="val 74278"/>
              <a:gd name="adj2" fmla="val 81000"/>
            </a:avLst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Picture 32" descr=""/>
          <p:cNvPicPr/>
          <p:nvPr/>
        </p:nvPicPr>
        <p:blipFill>
          <a:blip r:embed="rId1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3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35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36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Picture 37" descr=""/>
          <p:cNvPicPr/>
          <p:nvPr/>
        </p:nvPicPr>
        <p:blipFill>
          <a:blip r:embed="rId2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FC5E-CF78-4E25-9AD1-39150E1AD43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Web - Standard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964040" y="2184480"/>
            <a:ext cx="306072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0" name=""/>
          <p:cNvGraphicFramePr/>
          <p:nvPr/>
        </p:nvGraphicFramePr>
        <p:xfrm>
          <a:off x="6502320" y="2933640"/>
          <a:ext cx="6096240" cy="66675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Ausblic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ML und UR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– Grundla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–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– Syntax und Intuitio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SPARQ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im Semantic Web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icht aus der Prax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 – Syntax und Semanti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– Anwendung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1" name="Rectangle 61"/>
          <p:cNvSpPr/>
          <p:nvPr/>
        </p:nvSpPr>
        <p:spPr>
          <a:xfrm>
            <a:off x="1339920" y="3195720"/>
            <a:ext cx="4622760" cy="3888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62"/>
          <p:cNvSpPr/>
          <p:nvPr/>
        </p:nvSpPr>
        <p:spPr>
          <a:xfrm>
            <a:off x="1338120" y="3211560"/>
            <a:ext cx="46260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63"/>
          <p:cNvSpPr/>
          <p:nvPr/>
        </p:nvSpPr>
        <p:spPr>
          <a:xfrm>
            <a:off x="1339920" y="3562200"/>
            <a:ext cx="4632120" cy="5716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Picture 64" descr=""/>
          <p:cNvPicPr/>
          <p:nvPr/>
        </p:nvPicPr>
        <p:blipFill>
          <a:blip r:embed="rId2"/>
          <a:stretch/>
        </p:blipFill>
        <p:spPr>
          <a:xfrm>
            <a:off x="1525680" y="3792600"/>
            <a:ext cx="4279680" cy="443052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5"/>
          <p:cNvSpPr/>
          <p:nvPr/>
        </p:nvSpPr>
        <p:spPr>
          <a:xfrm>
            <a:off x="1636560" y="5665680"/>
            <a:ext cx="3254400" cy="290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66"/>
          <p:cNvSpPr/>
          <p:nvPr/>
        </p:nvSpPr>
        <p:spPr>
          <a:xfrm>
            <a:off x="2500200" y="8199360"/>
            <a:ext cx="1766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67"/>
          <p:cNvSpPr/>
          <p:nvPr/>
        </p:nvSpPr>
        <p:spPr>
          <a:xfrm>
            <a:off x="1636560" y="4387680"/>
            <a:ext cx="411660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68"/>
          <p:cNvSpPr/>
          <p:nvPr/>
        </p:nvSpPr>
        <p:spPr>
          <a:xfrm>
            <a:off x="2143080" y="443232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068C-4EC9-4BCE-B57E-D93E613DB5C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5D7E-BC4D-4F42-B54F-51CB3DD1081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3" name="Gruppieren 37" descr=""/>
          <p:cNvPicPr/>
          <p:nvPr/>
        </p:nvPicPr>
        <p:blipFill>
          <a:blip r:embed="rId1"/>
          <a:stretch/>
        </p:blipFill>
        <p:spPr>
          <a:xfrm>
            <a:off x="1249200" y="4754520"/>
            <a:ext cx="10893600" cy="43894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6"/>
          <p:cNvSpPr/>
          <p:nvPr/>
        </p:nvSpPr>
        <p:spPr>
          <a:xfrm>
            <a:off x="1589040" y="7016400"/>
            <a:ext cx="5283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Knowledge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Logical Foundations &amp; Reaso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rvice Engineering &amp; Manage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chine Learning &amp; Text Mining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17"/>
          <p:cNvSpPr/>
          <p:nvPr/>
        </p:nvSpPr>
        <p:spPr>
          <a:xfrm>
            <a:off x="6973920" y="7024320"/>
            <a:ext cx="4775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Web Infrastructur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mantic Search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ocial Software&amp; Web 2.0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marL="401760" indent="-401760" algn="ctr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01760"/>
                <a:tab algn="l" pos="1701720"/>
                <a:tab algn="l" pos="3003480"/>
                <a:tab algn="l" pos="4303800"/>
                <a:tab algn="l" pos="5603760"/>
                <a:tab algn="l" pos="6904080"/>
                <a:tab algn="l" pos="8204040"/>
                <a:tab algn="l" pos="9504360"/>
                <a:tab algn="l" pos="10806120"/>
                <a:tab algn="l" pos="12106440"/>
                <a:tab algn="l" pos="13406400"/>
                <a:tab algn="l" pos="1470672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Governmen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Gruppieren 20"/>
          <p:cNvGrpSpPr/>
          <p:nvPr/>
        </p:nvGrpSpPr>
        <p:grpSpPr>
          <a:xfrm>
            <a:off x="1284120" y="3673440"/>
            <a:ext cx="10769760" cy="1828800"/>
            <a:chOff x="1284120" y="3673440"/>
            <a:chExt cx="10769760" cy="1828800"/>
          </a:xfrm>
        </p:grpSpPr>
        <p:sp>
          <p:nvSpPr>
            <p:cNvPr id="567" name="AutoShape 35"/>
            <p:cNvSpPr/>
            <p:nvPr/>
          </p:nvSpPr>
          <p:spPr>
            <a:xfrm>
              <a:off x="1284120" y="3891240"/>
              <a:ext cx="10769760" cy="16110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AutoShape 36"/>
            <p:cNvSpPr/>
            <p:nvPr/>
          </p:nvSpPr>
          <p:spPr>
            <a:xfrm>
              <a:off x="1284120" y="3673440"/>
              <a:ext cx="10769760" cy="160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Rectangle 39"/>
          <p:cNvSpPr/>
          <p:nvPr/>
        </p:nvSpPr>
        <p:spPr>
          <a:xfrm>
            <a:off x="4908240" y="5322960"/>
            <a:ext cx="3437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echnology Transfer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de-DE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usiness Scenarios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8696160" y="5337000"/>
            <a:ext cx="36266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102240" bIns="102240" anchor="ctr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roduct Developmen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71" name="Object 43"/>
          <p:cNvGraphicFramePr/>
          <p:nvPr/>
        </p:nvGraphicFramePr>
        <p:xfrm>
          <a:off x="9480600" y="3165480"/>
          <a:ext cx="2587680" cy="7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2" name="Object 4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480600" y="3165480"/>
                    <a:ext cx="25876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45"/>
          <p:cNvSpPr/>
          <p:nvPr/>
        </p:nvSpPr>
        <p:spPr>
          <a:xfrm>
            <a:off x="1204920" y="5337000"/>
            <a:ext cx="333072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102240" bIns="102240" anchor="t">
            <a:spAutoFit/>
          </a:bodyPr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asic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marL="404640" indent="-4046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327320"/>
                <a:tab algn="l" pos="2654280"/>
                <a:tab algn="l" pos="3981600"/>
                <a:tab algn="l" pos="5308560"/>
                <a:tab algn="l" pos="6635880"/>
                <a:tab algn="l" pos="7962840"/>
                <a:tab algn="l" pos="9290160"/>
                <a:tab algn="l" pos="106171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pplied Research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Grafik 35" descr="FZI-Logo.png"/>
          <p:cNvPicPr/>
          <p:nvPr/>
        </p:nvPicPr>
        <p:blipFill>
          <a:blip r:embed="rId4"/>
          <a:stretch/>
        </p:blipFill>
        <p:spPr>
          <a:xfrm>
            <a:off x="6262560" y="2482920"/>
            <a:ext cx="812880" cy="139212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22" descr="KITLogo_CMYK.png"/>
          <p:cNvPicPr/>
          <p:nvPr/>
        </p:nvPicPr>
        <p:blipFill>
          <a:blip r:embed="rId5"/>
          <a:stretch/>
        </p:blipFill>
        <p:spPr>
          <a:xfrm>
            <a:off x="1893960" y="2716200"/>
            <a:ext cx="1987560" cy="9237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6"/>
          <a:stretch/>
        </p:blipFill>
        <p:spPr>
          <a:xfrm>
            <a:off x="2830680" y="3652920"/>
            <a:ext cx="1549080" cy="657000"/>
          </a:xfrm>
          <a:prstGeom prst="rect">
            <a:avLst/>
          </a:prstGeom>
          <a:ln w="0">
            <a:noFill/>
          </a:ln>
        </p:spPr>
      </p:pic>
      <p:pic>
        <p:nvPicPr>
          <p:cNvPr id="577" name="Grafik 34" descr="AIFB-Logo.png"/>
          <p:cNvPicPr/>
          <p:nvPr/>
        </p:nvPicPr>
        <p:blipFill>
          <a:blip r:embed="rId7"/>
          <a:stretch/>
        </p:blipFill>
        <p:spPr>
          <a:xfrm>
            <a:off x="1389240" y="3797280"/>
            <a:ext cx="1422360" cy="417600"/>
          </a:xfrm>
          <a:prstGeom prst="rect">
            <a:avLst/>
          </a:prstGeom>
          <a:ln w="0">
            <a:noFill/>
          </a:ln>
        </p:spPr>
      </p:pic>
      <p:sp>
        <p:nvSpPr>
          <p:cNvPr id="578" name="Titel 6"/>
          <p:cNvSpPr/>
          <p:nvPr/>
        </p:nvSpPr>
        <p:spPr>
          <a:xfrm>
            <a:off x="1538280" y="241200"/>
            <a:ext cx="1108548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CD4-896B-41B0-9CC2-B377BC7E81B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200" spc="-1" strike="noStrike">
                <a:solidFill>
                  <a:srgbClr val="000000"/>
                </a:solidFill>
                <a:latin typeface="Bodoni SvtyTwo SC ITC TT-Book"/>
              </a:rPr>
              <a:t>Semantic Karlsruh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Oval 4"/>
          <p:cNvSpPr/>
          <p:nvPr/>
        </p:nvSpPr>
        <p:spPr>
          <a:xfrm>
            <a:off x="4172040" y="2459160"/>
            <a:ext cx="8501040" cy="618480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380880" y="2395440"/>
            <a:ext cx="9010800" cy="6248520"/>
          </a:xfrm>
          <a:prstGeom prst="ellipse">
            <a:avLst/>
          </a:prstGeom>
          <a:noFill/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11138040" y="2174760"/>
            <a:ext cx="15350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FZI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84120" y="2174760"/>
            <a:ext cx="19731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240" rIns="120240" tIns="60120" bIns="60120" anchor="t">
            <a:spAutoFit/>
          </a:bodyPr>
          <a:p>
            <a:pPr algn="ctr">
              <a:lnSpc>
                <a:spcPct val="100000"/>
              </a:lnSpc>
              <a:spcBef>
                <a:spcPts val="2911"/>
              </a:spcBef>
              <a:tabLst>
                <a:tab algn="l" pos="0"/>
                <a:tab algn="l" pos="1193760"/>
                <a:tab algn="l" pos="2389320"/>
                <a:tab algn="l" pos="3583080"/>
                <a:tab algn="l" pos="4776840"/>
                <a:tab algn="l" pos="5972040"/>
                <a:tab algn="l" pos="7165800"/>
                <a:tab algn="l" pos="8359920"/>
                <a:tab algn="l" pos="9555120"/>
                <a:tab algn="l" pos="10752120"/>
                <a:tab algn="l" pos="11945880"/>
                <a:tab algn="l" pos="13139640"/>
              </a:tabLst>
            </a:pPr>
            <a:r>
              <a:rPr b="0" lang="en-GB" sz="4700" spc="-1" strike="noStrike">
                <a:solidFill>
                  <a:srgbClr val="ffffff"/>
                </a:solidFill>
                <a:latin typeface="Calibri"/>
                <a:ea typeface="Arial"/>
              </a:rPr>
              <a:t>AIFB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5808600" y="3154320"/>
            <a:ext cx="2082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400" spc="-1" strike="noStrike">
                <a:solidFill>
                  <a:srgbClr val="4d4d4d"/>
                </a:solidFill>
                <a:latin typeface="Calibri"/>
                <a:ea typeface="Arial"/>
              </a:rPr>
              <a:t>Rudi Stu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7140600" y="834084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alentin Zacharia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8062920" y="7624800"/>
            <a:ext cx="225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x Völk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980280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Nenad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7448400" y="2606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Andreas Abec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9188280" y="6288120"/>
            <a:ext cx="225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Ljiljana Stojanov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2124000" y="7318440"/>
            <a:ext cx="208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hanna Völk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2017800" y="2908440"/>
            <a:ext cx="317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Bloehdor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871800" y="2500200"/>
            <a:ext cx="224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udhir Agarwa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90480" y="3828960"/>
            <a:ext cx="290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Cimia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11014200" y="5572080"/>
            <a:ext cx="165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 Hefk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Text Box 21"/>
          <p:cNvSpPr/>
          <p:nvPr/>
        </p:nvSpPr>
        <p:spPr>
          <a:xfrm>
            <a:off x="9293400" y="4552920"/>
            <a:ext cx="19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phan Grim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Text Box 22"/>
          <p:cNvSpPr/>
          <p:nvPr/>
        </p:nvSpPr>
        <p:spPr>
          <a:xfrm>
            <a:off x="2533680" y="413712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Ha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Text Box 23"/>
          <p:cNvSpPr/>
          <p:nvPr/>
        </p:nvSpPr>
        <p:spPr>
          <a:xfrm>
            <a:off x="1711440" y="5264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teffen Lampar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369720" y="4341960"/>
            <a:ext cx="257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Uta Helling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2225520" y="4753080"/>
            <a:ext cx="235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ascal Hitz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4172040" y="8202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enny Vrande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587520" y="4854600"/>
            <a:ext cx="19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kus Krötzsc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9293400" y="5270400"/>
            <a:ext cx="2330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ans-Jörg Happ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11093400" y="4753080"/>
            <a:ext cx="1522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eiko Hal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56640" y="5572080"/>
            <a:ext cx="167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Holger Lew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1305000" y="3294000"/>
            <a:ext cx="2662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Bloh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3031200" y="7823160"/>
            <a:ext cx="1497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Yimin W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2239920" y="66978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hilipp So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003560" y="4035600"/>
            <a:ext cx="5697360" cy="3329280"/>
            <a:chOff x="4003560" y="4035600"/>
            <a:chExt cx="5697360" cy="3329280"/>
          </a:xfrm>
        </p:grpSpPr>
        <p:sp>
          <p:nvSpPr>
            <p:cNvPr id="610" name="AutoShape 37"/>
            <p:cNvSpPr/>
            <p:nvPr/>
          </p:nvSpPr>
          <p:spPr>
            <a:xfrm>
              <a:off x="4003560" y="4035600"/>
              <a:ext cx="5697360" cy="397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0320"/>
                  <a:tab algn="l" pos="2600280"/>
                  <a:tab algn="l" pos="3900600"/>
                  <a:tab algn="l" pos="5200560"/>
                  <a:tab algn="l" pos="6500880"/>
                  <a:tab algn="l" pos="7800840"/>
                  <a:tab algn="l" pos="9101160"/>
                  <a:tab algn="l" pos="1040148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4003560" y="4035600"/>
              <a:ext cx="5697360" cy="33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Knowledge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Application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lectronic Marke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eGovern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Infrastructur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Ontology Managem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Data/Text/Web Mining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Peer-to-Pe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8280" indent="-3682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368280"/>
                  <a:tab algn="l" pos="1565280"/>
                  <a:tab algn="l" pos="2759040"/>
                  <a:tab algn="l" pos="3952800"/>
                  <a:tab algn="l" pos="5148360"/>
                  <a:tab algn="l" pos="6342120"/>
                  <a:tab algn="l" pos="7535880"/>
                  <a:tab algn="l" pos="8731080"/>
                  <a:tab algn="l" pos="9925200"/>
                  <a:tab algn="l" pos="11118960"/>
                  <a:tab algn="l" pos="12314160"/>
                  <a:tab algn="l" pos="1350792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Semantic Web Service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12" name="Text Box 39"/>
          <p:cNvSpPr/>
          <p:nvPr/>
        </p:nvSpPr>
        <p:spPr>
          <a:xfrm>
            <a:off x="10112400" y="4137120"/>
            <a:ext cx="1887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mone Brau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8557560" y="8618400"/>
            <a:ext cx="4125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ca. 40 people at Ontoprise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871200" y="6249960"/>
            <a:ext cx="21823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Rudol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Text Box 43"/>
          <p:cNvSpPr/>
          <p:nvPr/>
        </p:nvSpPr>
        <p:spPr>
          <a:xfrm>
            <a:off x="893880" y="7010280"/>
            <a:ext cx="266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Duc Thanh Tra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Text Box 44"/>
          <p:cNvSpPr/>
          <p:nvPr/>
        </p:nvSpPr>
        <p:spPr>
          <a:xfrm>
            <a:off x="9293040" y="7210440"/>
            <a:ext cx="2539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000" spc="-1" strike="noStrike">
                <a:solidFill>
                  <a:srgbClr val="4d4d4d"/>
                </a:solidFill>
                <a:latin typeface="Calibri"/>
                <a:ea typeface="Arial"/>
              </a:rPr>
              <a:t>Tuvshintur Tserendorj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8575560" y="803448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Raphael Vol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10520280" y="598176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oachim Kl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Text Box 47"/>
          <p:cNvSpPr/>
          <p:nvPr/>
        </p:nvSpPr>
        <p:spPr>
          <a:xfrm>
            <a:off x="627480" y="8618400"/>
            <a:ext cx="62683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  <a:ea typeface="Arial"/>
              </a:rPr>
              <a:t>+  7 external Ph.D. students at SAP Research 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Text Box 48"/>
          <p:cNvSpPr/>
          <p:nvPr/>
        </p:nvSpPr>
        <p:spPr>
          <a:xfrm>
            <a:off x="8575560" y="3828960"/>
            <a:ext cx="245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ürgen Bo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8267760" y="690228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inan S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Text Box 50"/>
          <p:cNvSpPr/>
          <p:nvPr/>
        </p:nvSpPr>
        <p:spPr>
          <a:xfrm>
            <a:off x="9599760" y="342576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Veli Bic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Text Box 52"/>
          <p:cNvSpPr/>
          <p:nvPr/>
        </p:nvSpPr>
        <p:spPr>
          <a:xfrm>
            <a:off x="7039080" y="7927920"/>
            <a:ext cx="24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Peter Wolf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Text Box 53"/>
          <p:cNvSpPr/>
          <p:nvPr/>
        </p:nvSpPr>
        <p:spPr>
          <a:xfrm>
            <a:off x="7859880" y="3319560"/>
            <a:ext cx="245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Tian Ba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Text Box 54"/>
          <p:cNvSpPr/>
          <p:nvPr/>
        </p:nvSpPr>
        <p:spPr>
          <a:xfrm>
            <a:off x="8678880" y="577548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Jun M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Text Box 55"/>
          <p:cNvSpPr/>
          <p:nvPr/>
        </p:nvSpPr>
        <p:spPr>
          <a:xfrm>
            <a:off x="8780400" y="2908440"/>
            <a:ext cx="24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Darko Anici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Text Box 23"/>
          <p:cNvSpPr/>
          <p:nvPr/>
        </p:nvSpPr>
        <p:spPr>
          <a:xfrm>
            <a:off x="1752480" y="5970600"/>
            <a:ext cx="266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Maria Maleshkov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2522520" y="3630600"/>
            <a:ext cx="257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Frank Dengl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Text Box 22"/>
          <p:cNvSpPr/>
          <p:nvPr/>
        </p:nvSpPr>
        <p:spPr>
          <a:xfrm>
            <a:off x="3046320" y="7624800"/>
            <a:ext cx="2570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8280" indent="-3682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68280"/>
                <a:tab algn="l" pos="1565280"/>
                <a:tab algn="l" pos="2759040"/>
                <a:tab algn="l" pos="3952800"/>
                <a:tab algn="l" pos="5148360"/>
                <a:tab algn="l" pos="6342120"/>
                <a:tab algn="l" pos="7535880"/>
                <a:tab algn="l" pos="8731080"/>
                <a:tab algn="l" pos="9925200"/>
                <a:tab algn="l" pos="11118960"/>
                <a:tab algn="l" pos="12314160"/>
                <a:tab algn="l" pos="1350792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Calibri"/>
                <a:ea typeface="Arial"/>
              </a:rPr>
              <a:t>Sebastian Speis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1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3279-DFEB-4683-ABD7-9685D575E8F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7920" y="240840"/>
            <a:ext cx="11085480" cy="153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SvtyTwo SC ITC TT-Book"/>
              </a:rPr>
              <a:t>Ausgewählte Partner und Projekte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2" name="Picture 3" descr="deri"/>
          <p:cNvPicPr/>
          <p:nvPr/>
        </p:nvPicPr>
        <p:blipFill>
          <a:blip r:embed="rId1"/>
          <a:stretch/>
        </p:blipFill>
        <p:spPr>
          <a:xfrm>
            <a:off x="11584080" y="3778200"/>
            <a:ext cx="1420560" cy="1190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dreba_logo"/>
          <p:cNvPicPr/>
          <p:nvPr/>
        </p:nvPicPr>
        <p:blipFill>
          <a:blip r:embed="rId2"/>
          <a:stretch/>
        </p:blipFill>
        <p:spPr>
          <a:xfrm>
            <a:off x="10736280" y="6013440"/>
            <a:ext cx="2268360" cy="5396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small_crest"/>
          <p:cNvPicPr/>
          <p:nvPr/>
        </p:nvPicPr>
        <p:blipFill>
          <a:blip r:embed="rId3"/>
          <a:stretch/>
        </p:blipFill>
        <p:spPr>
          <a:xfrm>
            <a:off x="11955600" y="4591080"/>
            <a:ext cx="1049040" cy="12621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logitipo-meta4-blanco"/>
          <p:cNvPicPr/>
          <p:nvPr/>
        </p:nvPicPr>
        <p:blipFill>
          <a:blip r:embed="rId4"/>
          <a:stretch/>
        </p:blipFill>
        <p:spPr>
          <a:xfrm>
            <a:off x="4871880" y="7537320"/>
            <a:ext cx="1224000" cy="3859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h-banner"/>
          <p:cNvPicPr/>
          <p:nvPr/>
        </p:nvPicPr>
        <p:blipFill>
          <a:blip r:embed="rId5"/>
          <a:stretch/>
        </p:blipFill>
        <p:spPr>
          <a:xfrm>
            <a:off x="1930320" y="8553600"/>
            <a:ext cx="3251160" cy="59976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0"/>
          <p:cNvGrpSpPr/>
          <p:nvPr/>
        </p:nvGrpSpPr>
        <p:grpSpPr>
          <a:xfrm>
            <a:off x="2411280" y="6826320"/>
            <a:ext cx="3684240" cy="1587240"/>
            <a:chOff x="2411280" y="6826320"/>
            <a:chExt cx="3684240" cy="1587240"/>
          </a:xfrm>
        </p:grpSpPr>
        <p:pic>
          <p:nvPicPr>
            <p:cNvPr id="638" name="Picture 11" descr="0-griffioenEng"/>
            <p:cNvPicPr/>
            <p:nvPr/>
          </p:nvPicPr>
          <p:blipFill>
            <a:blip r:embed="rId6"/>
            <a:srcRect l="69797" t="0" r="0" b="0"/>
            <a:stretch/>
          </p:blipFill>
          <p:spPr>
            <a:xfrm>
              <a:off x="3436200" y="6826320"/>
              <a:ext cx="1254600" cy="130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2" descr="0-griffioenEng"/>
            <p:cNvPicPr/>
            <p:nvPr/>
          </p:nvPicPr>
          <p:blipFill>
            <a:blip r:embed="rId7"/>
            <a:srcRect l="0" t="80008" r="31632" b="0"/>
            <a:stretch/>
          </p:blipFill>
          <p:spPr>
            <a:xfrm>
              <a:off x="2411280" y="7952760"/>
              <a:ext cx="3684240" cy="4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0" name="Picture 13" descr="banner-left"/>
          <p:cNvPicPr/>
          <p:nvPr/>
        </p:nvPicPr>
        <p:blipFill>
          <a:blip r:embed="rId8"/>
          <a:stretch/>
        </p:blipFill>
        <p:spPr>
          <a:xfrm>
            <a:off x="8840880" y="6013440"/>
            <a:ext cx="1014480" cy="11383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4" descr="hplogo"/>
          <p:cNvPicPr/>
          <p:nvPr/>
        </p:nvPicPr>
        <p:blipFill>
          <a:blip r:embed="rId9"/>
          <a:stretch/>
        </p:blipFill>
        <p:spPr>
          <a:xfrm>
            <a:off x="7647120" y="8147160"/>
            <a:ext cx="1191960" cy="9936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15"/>
          <p:cNvGrpSpPr/>
          <p:nvPr/>
        </p:nvGrpSpPr>
        <p:grpSpPr>
          <a:xfrm>
            <a:off x="11582280" y="6826320"/>
            <a:ext cx="1117440" cy="1517400"/>
            <a:chOff x="11582280" y="6826320"/>
            <a:chExt cx="1117440" cy="1517400"/>
          </a:xfrm>
        </p:grpSpPr>
        <p:pic>
          <p:nvPicPr>
            <p:cNvPr id="643" name="Picture 16" descr="uni_typo_2"/>
            <p:cNvPicPr/>
            <p:nvPr/>
          </p:nvPicPr>
          <p:blipFill>
            <a:blip r:embed="rId10"/>
            <a:srcRect l="54055" t="0" r="0" b="0"/>
            <a:stretch/>
          </p:blipFill>
          <p:spPr>
            <a:xfrm>
              <a:off x="11582280" y="6826320"/>
              <a:ext cx="111744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7" descr="uni_typo_3"/>
            <p:cNvPicPr/>
            <p:nvPr/>
          </p:nvPicPr>
          <p:blipFill>
            <a:blip r:embed="rId11"/>
            <a:srcRect l="54055" t="0" r="0" b="0"/>
            <a:stretch/>
          </p:blipFill>
          <p:spPr>
            <a:xfrm>
              <a:off x="11582280" y="7570800"/>
              <a:ext cx="1117440" cy="77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5" name="Picture 18" descr="e_tiiv"/>
          <p:cNvPicPr/>
          <p:nvPr/>
        </p:nvPicPr>
        <p:blipFill>
          <a:blip r:embed="rId12"/>
          <a:stretch/>
        </p:blipFill>
        <p:spPr>
          <a:xfrm>
            <a:off x="7518240" y="4083120"/>
            <a:ext cx="2463840" cy="792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9" descr="w3c"/>
          <p:cNvPicPr/>
          <p:nvPr/>
        </p:nvPicPr>
        <p:blipFill>
          <a:blip r:embed="rId13"/>
          <a:stretch/>
        </p:blipFill>
        <p:spPr>
          <a:xfrm>
            <a:off x="10261440" y="7329600"/>
            <a:ext cx="974880" cy="512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0" descr="ibm"/>
          <p:cNvPicPr/>
          <p:nvPr/>
        </p:nvPicPr>
        <p:blipFill>
          <a:blip r:embed="rId14"/>
          <a:stretch/>
        </p:blipFill>
        <p:spPr>
          <a:xfrm>
            <a:off x="9956880" y="4184640"/>
            <a:ext cx="1299960" cy="6588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1" descr="logo_ibit1"/>
          <p:cNvPicPr/>
          <p:nvPr/>
        </p:nvPicPr>
        <p:blipFill>
          <a:blip r:embed="rId15"/>
          <a:stretch/>
        </p:blipFill>
        <p:spPr>
          <a:xfrm>
            <a:off x="9651960" y="5200560"/>
            <a:ext cx="1397160" cy="6778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2" descr="logo8-color-small"/>
          <p:cNvPicPr/>
          <p:nvPr/>
        </p:nvPicPr>
        <p:blipFill>
          <a:blip r:embed="rId16"/>
          <a:srcRect l="17391" t="0" r="17391" b="0"/>
          <a:stretch/>
        </p:blipFill>
        <p:spPr>
          <a:xfrm>
            <a:off x="84240" y="3676680"/>
            <a:ext cx="2455920" cy="1514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3" descr="KW_logo"/>
          <p:cNvPicPr/>
          <p:nvPr/>
        </p:nvPicPr>
        <p:blipFill>
          <a:blip r:embed="rId17"/>
          <a:stretch/>
        </p:blipFill>
        <p:spPr>
          <a:xfrm>
            <a:off x="203040" y="7496280"/>
            <a:ext cx="1544760" cy="10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4" descr="sap_logo"/>
          <p:cNvPicPr/>
          <p:nvPr/>
        </p:nvPicPr>
        <p:blipFill>
          <a:blip r:embed="rId18"/>
          <a:stretch/>
        </p:blipFill>
        <p:spPr>
          <a:xfrm>
            <a:off x="9448920" y="3371760"/>
            <a:ext cx="118728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5" descr="diplogo"/>
          <p:cNvPicPr/>
          <p:nvPr/>
        </p:nvPicPr>
        <p:blipFill>
          <a:blip r:embed="rId19"/>
          <a:srcRect l="0" t="0" r="0" b="15159"/>
          <a:stretch/>
        </p:blipFill>
        <p:spPr>
          <a:xfrm>
            <a:off x="2514600" y="6014880"/>
            <a:ext cx="1735200" cy="92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neon_print"/>
          <p:cNvPicPr/>
          <p:nvPr/>
        </p:nvPicPr>
        <p:blipFill>
          <a:blip r:embed="rId20"/>
          <a:stretch/>
        </p:blipFill>
        <p:spPr>
          <a:xfrm>
            <a:off x="3429000" y="5318280"/>
            <a:ext cx="1636560" cy="6998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SPC"/>
          <p:cNvPicPr/>
          <p:nvPr/>
        </p:nvPicPr>
        <p:blipFill>
          <a:blip r:embed="rId21"/>
          <a:stretch/>
        </p:blipFill>
        <p:spPr>
          <a:xfrm>
            <a:off x="4908600" y="306216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9" descr="SPC"/>
          <p:cNvPicPr/>
          <p:nvPr/>
        </p:nvPicPr>
        <p:blipFill>
          <a:blip r:embed="rId22"/>
          <a:stretch/>
        </p:blipFill>
        <p:spPr>
          <a:xfrm>
            <a:off x="3811680" y="3821040"/>
            <a:ext cx="108000" cy="43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0" descr="x-media-logo"/>
          <p:cNvPicPr/>
          <p:nvPr/>
        </p:nvPicPr>
        <p:blipFill>
          <a:blip r:embed="rId23"/>
          <a:stretch/>
        </p:blipFill>
        <p:spPr>
          <a:xfrm>
            <a:off x="357120" y="6410160"/>
            <a:ext cx="2252880" cy="5288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SESAM-Logo-CMYK_1-klein"/>
          <p:cNvPicPr/>
          <p:nvPr/>
        </p:nvPicPr>
        <p:blipFill>
          <a:blip r:embed="rId24"/>
          <a:stretch/>
        </p:blipFill>
        <p:spPr>
          <a:xfrm>
            <a:off x="1380960" y="6939000"/>
            <a:ext cx="1640160" cy="797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2" descr="SW-logo_redblue2_640"/>
          <p:cNvPicPr/>
          <p:nvPr/>
        </p:nvPicPr>
        <p:blipFill>
          <a:blip r:embed="rId25"/>
          <a:stretch/>
        </p:blipFill>
        <p:spPr>
          <a:xfrm>
            <a:off x="5630760" y="3270240"/>
            <a:ext cx="2305080" cy="501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"/>
          <p:cNvPicPr/>
          <p:nvPr/>
        </p:nvPicPr>
        <p:blipFill>
          <a:blip r:embed="rId26"/>
          <a:stretch/>
        </p:blipFill>
        <p:spPr>
          <a:xfrm>
            <a:off x="5375160" y="3979800"/>
            <a:ext cx="1228680" cy="808200"/>
          </a:xfrm>
          <a:prstGeom prst="rect">
            <a:avLst/>
          </a:prstGeom>
          <a:ln w="0">
            <a:noFill/>
          </a:ln>
        </p:spPr>
      </p:pic>
      <p:sp>
        <p:nvSpPr>
          <p:cNvPr id="660" name="Line 39"/>
          <p:cNvSpPr/>
          <p:nvPr/>
        </p:nvSpPr>
        <p:spPr>
          <a:xfrm flipV="1">
            <a:off x="812880" y="2152440"/>
            <a:ext cx="9144000" cy="711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1" name="Picture 40" descr="nepomuk"/>
          <p:cNvPicPr/>
          <p:nvPr/>
        </p:nvPicPr>
        <p:blipFill>
          <a:blip r:embed="rId27"/>
          <a:stretch/>
        </p:blipFill>
        <p:spPr>
          <a:xfrm>
            <a:off x="2201760" y="4613400"/>
            <a:ext cx="2048040" cy="9936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1" descr="wiman-logo"/>
          <p:cNvPicPr/>
          <p:nvPr/>
        </p:nvPicPr>
        <p:blipFill>
          <a:blip r:embed="rId28"/>
          <a:stretch/>
        </p:blipFill>
        <p:spPr>
          <a:xfrm>
            <a:off x="3759120" y="3740040"/>
            <a:ext cx="1362240" cy="11559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3" descr="project_halo_logo"/>
          <p:cNvPicPr/>
          <p:nvPr/>
        </p:nvPicPr>
        <p:blipFill>
          <a:blip r:embed="rId29"/>
          <a:stretch/>
        </p:blipFill>
        <p:spPr>
          <a:xfrm>
            <a:off x="460440" y="5097600"/>
            <a:ext cx="1741320" cy="1017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SemanticMediaWiki_200"/>
          <p:cNvPicPr/>
          <p:nvPr/>
        </p:nvPicPr>
        <p:blipFill>
          <a:blip r:embed="rId30"/>
          <a:stretch/>
        </p:blipFill>
        <p:spPr>
          <a:xfrm>
            <a:off x="174600" y="2484360"/>
            <a:ext cx="1247760" cy="129384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45"/>
          <p:cNvSpPr/>
          <p:nvPr/>
        </p:nvSpPr>
        <p:spPr>
          <a:xfrm>
            <a:off x="1117440" y="3328920"/>
            <a:ext cx="248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de-DE" sz="1700" spc="-1" strike="noStrike">
                <a:solidFill>
                  <a:srgbClr val="7f7f7f"/>
                </a:solidFill>
                <a:latin typeface="Arial Rounded MT Bold"/>
                <a:ea typeface="ヒラギノ角ゴ Pro W3"/>
              </a:rPr>
              <a:t>Semantic MediaWiki</a:t>
            </a:r>
            <a:endParaRPr b="0" lang="en-US" sz="1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6" name="Picture 51" descr="kcms_img"/>
          <p:cNvPicPr/>
          <p:nvPr/>
        </p:nvPicPr>
        <p:blipFill>
          <a:blip r:embed="rId31"/>
          <a:stretch/>
        </p:blipFill>
        <p:spPr>
          <a:xfrm>
            <a:off x="6635880" y="2378160"/>
            <a:ext cx="2220840" cy="6890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"/>
          <p:cNvPicPr/>
          <p:nvPr/>
        </p:nvPicPr>
        <p:blipFill>
          <a:blip r:embed="rId32"/>
          <a:stretch/>
        </p:blipFill>
        <p:spPr>
          <a:xfrm>
            <a:off x="10871280" y="2558880"/>
            <a:ext cx="1914480" cy="8128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"/>
          <p:cNvPicPr/>
          <p:nvPr/>
        </p:nvPicPr>
        <p:blipFill>
          <a:blip r:embed="rId33"/>
          <a:stretch/>
        </p:blipFill>
        <p:spPr>
          <a:xfrm>
            <a:off x="1512720" y="2355840"/>
            <a:ext cx="2043360" cy="914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2" descr=""/>
          <p:cNvPicPr/>
          <p:nvPr/>
        </p:nvPicPr>
        <p:blipFill>
          <a:blip r:embed="rId34"/>
          <a:stretch/>
        </p:blipFill>
        <p:spPr>
          <a:xfrm>
            <a:off x="3657600" y="2558880"/>
            <a:ext cx="1544760" cy="1097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9" descr=""/>
          <p:cNvPicPr/>
          <p:nvPr/>
        </p:nvPicPr>
        <p:blipFill>
          <a:blip r:embed="rId35"/>
          <a:stretch/>
        </p:blipFill>
        <p:spPr>
          <a:xfrm>
            <a:off x="5068800" y="2468520"/>
            <a:ext cx="1433520" cy="700200"/>
          </a:xfrm>
          <a:prstGeom prst="rect">
            <a:avLst/>
          </a:prstGeom>
          <a:ln w="0">
            <a:noFill/>
          </a:ln>
        </p:spPr>
      </p:pic>
      <p:pic>
        <p:nvPicPr>
          <p:cNvPr id="671" name="Grafik 50" descr="header_daimler.gif"/>
          <p:cNvPicPr/>
          <p:nvPr/>
        </p:nvPicPr>
        <p:blipFill>
          <a:blip r:embed="rId36"/>
          <a:srcRect l="0" t="0" r="75297" b="0"/>
          <a:stretch/>
        </p:blipFill>
        <p:spPr>
          <a:xfrm>
            <a:off x="8839080" y="8147160"/>
            <a:ext cx="2641680" cy="931680"/>
          </a:xfrm>
          <a:prstGeom prst="rect">
            <a:avLst/>
          </a:prstGeom>
          <a:ln w="0">
            <a:noFill/>
          </a:ln>
        </p:spPr>
      </p:pic>
      <p:pic>
        <p:nvPicPr>
          <p:cNvPr id="672" name="Grafik 51" descr="ox_small_cmyk_pos.gif"/>
          <p:cNvPicPr/>
          <p:nvPr/>
        </p:nvPicPr>
        <p:blipFill>
          <a:blip r:embed="rId37"/>
          <a:stretch/>
        </p:blipFill>
        <p:spPr>
          <a:xfrm>
            <a:off x="6299280" y="68263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DATA\scm-misc\aifb-svn\ls3internal\dissemination-materials\logos-partners\CERTH Athens\ITI Logo small.tif"/>
          <p:cNvPicPr/>
          <p:nvPr/>
        </p:nvPicPr>
        <p:blipFill>
          <a:blip r:embed="rId38"/>
          <a:stretch/>
        </p:blipFill>
        <p:spPr>
          <a:xfrm>
            <a:off x="6353280" y="8248680"/>
            <a:ext cx="961920" cy="857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" descr="C:\DATA\scm-misc\aifb-svn\ls3internal\dissemination-materials\logos-partners\UPC Madrid\Logo_UPM_large.jpg"/>
          <p:cNvPicPr/>
          <p:nvPr/>
        </p:nvPicPr>
        <p:blipFill>
          <a:blip r:embed="rId39"/>
          <a:stretch/>
        </p:blipFill>
        <p:spPr>
          <a:xfrm>
            <a:off x="5079960" y="6013440"/>
            <a:ext cx="914400" cy="1212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DATA\scm-misc\aifb-svn\ls3internal\dissemination-materials\logos-partners\jsi\JSI-Logo.gif"/>
          <p:cNvPicPr/>
          <p:nvPr/>
        </p:nvPicPr>
        <p:blipFill>
          <a:blip r:embed="rId40"/>
          <a:stretch/>
        </p:blipFill>
        <p:spPr>
          <a:xfrm>
            <a:off x="7721640" y="7334280"/>
            <a:ext cx="2438280" cy="417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C:\DATA\scm-misc\aifb-svn\ls3internal\dissemination-materials\logos-partners\bt\BT_mark_4col_pos.png"/>
          <p:cNvPicPr/>
          <p:nvPr/>
        </p:nvPicPr>
        <p:blipFill>
          <a:blip r:embed="rId41"/>
          <a:stretch/>
        </p:blipFill>
        <p:spPr>
          <a:xfrm>
            <a:off x="6594480" y="5607000"/>
            <a:ext cx="2143080" cy="10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2EB0-79CA-479D-81F7-EF782AEA6BC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emantic Karlsruhe: Lehr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1612800" y="19810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Arial"/>
                <a:ea typeface="Arial"/>
              </a:rPr>
              <a:t>Interesse an Lehrveranstaltungen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841040" y="3352320"/>
            <a:ext cx="7696440" cy="582948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Wint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Angewandte Informatik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Helvetica Neue"/>
              </a:rPr>
              <a:t>Sommersemester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antic Web Technologies II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Seminar Knowledge Discovery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issensmanagement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Lehrangebot gilt für alle Studienrichtungen: Informationswirtschaft, Wirtschaftsingenieurwesen, technische VWL, Wirtschaftsmathematik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3207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Wahlmöglichkeiten entsprechend alter oder neuer Prüfungsordnung (Diplom bzw. Bachelor/Master)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E9CD-6396-4980-99F3-FF557C74B6D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36480" y="240840"/>
            <a:ext cx="1112508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Semantic Karlsruhe: We Want You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2425680" y="2684520"/>
            <a:ext cx="8153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160e"/>
                </a:solidFill>
                <a:latin typeface="Helvetica Neue"/>
              </a:rPr>
              <a:t>Interesse an Mitarbei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4160" y="3995640"/>
            <a:ext cx="7696440" cy="4076640"/>
          </a:xfrm>
          <a:prstGeom prst="rect">
            <a:avLst/>
          </a:prstGeom>
          <a:noFill/>
          <a:ln w="0">
            <a:noFill/>
          </a:ln>
        </p:spPr>
        <p:txBody>
          <a:bodyPr lIns="50760" rIns="40680" tIns="50760" bIns="50760" anchor="t">
            <a:normAutofit/>
          </a:bodyPr>
          <a:p>
            <a:pPr marL="320760" indent="-28116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Mitarbeit an praxisrelevanten internationalen Forschungsprojekten im Rahmen v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HiWi-Tätigk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inaren / Praktika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lvl="1" marL="80496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tudien- / Diplomarbeit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2819520" y="6130800"/>
            <a:ext cx="553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http://www.aifb.uni-karlsruhe.de/WB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514600" y="6856560"/>
          <a:ext cx="7813800" cy="1703160"/>
        </p:xfrm>
        <a:graphic>
          <a:graphicData uri="http://schemas.openxmlformats.org/drawingml/2006/table">
            <a:tbl>
              <a:tblPr/>
              <a:tblGrid>
                <a:gridCol w="3887640"/>
                <a:gridCol w="3926160"/>
              </a:tblGrid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Wissens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Infra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und Web 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Data/Text Mining, N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telligente WWW-Applikati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Ontolog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Business Intellig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20760" indent="-281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Semantic Web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D278-43CA-4501-862B-7E6E8D2DB27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.Sc. Markus Krötzsc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ince Mar. 2005: PhD student and research assistant in Prof. Rudi Studer's group at Institute AIFB of Universität Karlsruhe (TH)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Feb. 2005: Master of Science in Computational Logic, degree 1.0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Jun.–Aug. 2004: visit at CWRU Cleve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–2005: Study of Computational Logic at the ICCL of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–2003: Study of Computer Science at Technische Universität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7442280" y="5168880"/>
            <a:ext cx="3314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ssensrepräs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sche Wik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8153280" y="3048120"/>
            <a:ext cx="190512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EC4F-A9C5-4D94-BCD0-0776B14E9E2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05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D Dr. Pascal Hitzler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8 Diplom Mathematik, Tübing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1 Dissertation in Mathematik, Cork, Irland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5 Habilitation in Informatik, TU Dresd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chwerpunkt Künstliche Intelligenz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Mitte 2004 als Projektleiter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me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Wissensverarbeitung, formale Grundlagen bis zur Anwend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mantic We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onmonotonic Reaso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Neurosymbolische Integr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Begriffsstruktu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heorie der Semantik von Programmiersprach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pascal-hitzler.de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8292960" y="2819520"/>
            <a:ext cx="162720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58B0-66F3-480D-B375-D050C85FD25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stellung der Doze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Dr. Sebastian Rudolph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1995 – 2000 Studium Lehram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Mathematik/Physik/Informati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0 – 2003 Stipendiat im Graduiertenkolleg 334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TU Dresden 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3 – 2005 wissenschaftlicher Mitarbeiter an 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fessur für die Psychologie d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Lehrens und Lernens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2006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Promotion in Mathematik, TU Dresden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  <a:p>
            <a:pPr marL="317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seit 2006 als Postdoc am AIFB</a:t>
            </a:r>
            <a:endParaRPr b="0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7442280" y="5168880"/>
            <a:ext cx="46051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men: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Aspekte der Wissensverarbeitu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omplexitätstheori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le Begriffsanaly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-Lear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8158320" y="3246480"/>
            <a:ext cx="1904760" cy="22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A2CB-D9E1-4CD6-ACE4-565463EC96A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stellung der Doze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rganisatorisches zur Vorlesung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as ist das "Semantic Web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Semantic Karlsruhe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9F3F-29C2-460D-A0C4-F212E0BD0AB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1585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Zeit und Or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852560"/>
            <a:ext cx="1046484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lesung:  mittwochs, 11:30 - 13:0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Übung:       montags,    11:30 - 13:00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(zweiwöchentlich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rt:             Raum 231, Geb. 11.40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oll die Vorlesung verlegt werde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6654960" y="5799240"/>
            <a:ext cx="5046480" cy="3835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876240" y="5829480"/>
            <a:ext cx="5219640" cy="3684240"/>
          </a:xfrm>
          <a:prstGeom prst="rect">
            <a:avLst/>
          </a:prstGeom>
          <a:ln w="0">
            <a:noFill/>
          </a:ln>
        </p:spPr>
      </p:pic>
      <p:sp>
        <p:nvSpPr>
          <p:cNvPr id="384" name="Oval 5"/>
          <p:cNvSpPr/>
          <p:nvPr/>
        </p:nvSpPr>
        <p:spPr>
          <a:xfrm>
            <a:off x="2870280" y="8636040"/>
            <a:ext cx="482400" cy="53352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6603840" y="8686800"/>
            <a:ext cx="1028880" cy="106668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liennummernplatzhalter 3"/>
          <p:cNvSpPr/>
          <p:nvPr/>
        </p:nvSpPr>
        <p:spPr>
          <a:xfrm>
            <a:off x="12674520" y="93981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EA36-14A6-4229-ACB0-3CEDF7A06D2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026144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rganisatorisches: Aktuell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11252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bseite mit aktuellen Infos:</a:t>
            </a:r>
            <a:br>
              <a:rPr sz="4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ttp://semantic-web-grundlagen.de/wiki/SWebT1_WS08/09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ktuelle Info ist in der Regel nicht im KIT Studierendenportal, sondern auf obiger Webseite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3808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ailingliste: Bitte eintragen wie auf Webseite verzeichnet. Wir gehen davon aus, dass Mails an die Liste alle Teilnehmer erreich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1:45Z</dcterms:created>
  <dc:creator/>
  <dc:description/>
  <cp:keywords/>
  <dc:language>en-US</dc:language>
  <cp:lastModifiedBy>Sebastian Rudolph</cp:lastModifiedBy>
  <dcterms:modified xsi:type="dcterms:W3CDTF">2008-10-21T21:15:23Z</dcterms:modified>
  <cp:revision>49</cp:revision>
  <dc:subject/>
  <dc:title>Semantic Web Technologies I</dc:title>
</cp:coreProperties>
</file>